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D9E-8254-4068-B0A3-BCDEAED0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192-8729-4261-84C9-31B235A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C14-C834-4BFC-B438-29A516AF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9B7-A5A3-459E-89A8-42DBAB3D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FBE-C5BD-4A5F-BF5B-1D97938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77E-B2AD-4363-8D50-F3F22CB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244-7E02-4AF9-BE2B-0C316E0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792-A30A-49B2-AE56-C2B4674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201-E947-428B-B7B0-7DE762A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35F-A594-4383-9102-3773AFB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546-0C0F-4D05-9581-6546DFF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104-C004-4E44-A503-C7186E6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F9A-4B3F-4159-848F-0BA56BE8C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0 Ty, Pane, ľud svoj vedieš 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ľud svoj vedieš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ho žehnáš, zveľaď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slovom poteš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íval zla nás ohroz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s vedieš, opatr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u žitia usmerň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 sa vždy utiek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esklameš neopustí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voja nedopu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s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34:28Z</dcterms:modified>
  <cp:revision>22</cp:revision>
  <dc:subject/>
  <dc:title>Je veľký náš Pán, on slávy je Kráľ Nech do všetkých strán  spev vrúcnych znie chvál.</dc:title>
</cp:coreProperties>
</file>